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316-66A8-4339-BD7A-9555BB83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0DA1-412A-4C5C-9ADC-F7C275DA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DF67-ED43-44DE-A003-82BBFB26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159-EAA0-4C98-9247-38577CA9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AE48-3A9D-43E5-AD7F-188992E1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DA80-F459-448E-8739-B490B6A2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831B-7CD3-4782-9C11-58127E42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89FC-18EB-4E6D-A8ED-739A44FB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D641-6F05-4214-87C1-BCB4BA3F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758A-27C7-4CAE-83CC-2F1DDD3F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DC67-863D-45FF-97E1-28DDC4C4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0D0B-9E1D-49B7-A064-DDAFFF7C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8A50-550A-4E47-9E36-DEC461840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914400"/>
            <a:ext cx="739152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Comic Sans MS"/>
              </a:rPr>
              <a:t>¿Cuál es el tema básico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Comic Sans MS"/>
              </a:rPr>
              <a:t>¿Qué representa la obra de arte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52815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38448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01064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4514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5831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0773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0" y="533520"/>
            <a:ext cx="4522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9:00:17Z</dcterms:created>
  <dc:creator>Joann Gavigan</dc:creator>
  <dc:description/>
  <dc:language>en-US</dc:language>
  <cp:lastModifiedBy>Edison BOE</cp:lastModifiedBy>
  <dcterms:modified xsi:type="dcterms:W3CDTF">2004-10-05T12:10:22Z</dcterms:modified>
  <cp:revision>2</cp:revision>
  <dc:subject/>
  <dc:title>Slide 1</dc:title>
</cp:coreProperties>
</file>